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754-1AE8-4786-BE7A-E7E3ADA1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CDC-7CCD-419E-9586-B1E461D5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B9D-C8E2-4B9D-B101-1D5C553D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680-4181-48FD-8E0D-73D7069B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050-6878-4B53-9A96-A1CE5B40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7E5-B15B-4C81-AA53-369B9119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878-1263-4CFD-AD45-23BEAAB4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FA5-B881-42BF-85CE-A2909BF0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E301-7383-48D3-B127-4A633411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F53-D837-434C-9E13-BDA6EE28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050-B7DF-4533-9DB1-7F08B7FF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E0E-DB44-41DD-9F88-09389558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546D-5CE4-4B37-8AB4-5E1F44985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glishpage.com/verbpage/types.html" TargetMode="External"/><Relationship Id="rId2" Type="http://schemas.openxmlformats.org/officeDocument/2006/relationships/hyperlink" Target="http://www.englishpage.com/verbpage/types.html" TargetMode="External"/><Relationship Id="rId3" Type="http://schemas.openxmlformats.org/officeDocument/2006/relationships/hyperlink" Target="http://www.englishpage.com/verbpage/types.html" TargetMode="External"/><Relationship Id="rId4" Type="http://schemas.openxmlformats.org/officeDocument/2006/relationships/hyperlink" Target="http://www.englishpage.com/verbpage/types.html" TargetMode="External"/><Relationship Id="rId5" Type="http://schemas.openxmlformats.org/officeDocument/2006/relationships/hyperlink" Target="http://www.englishpage.com/verbpage/presentperfect.html" TargetMode="External"/><Relationship Id="rId6" Type="http://schemas.openxmlformats.org/officeDocument/2006/relationships/hyperlink" Target="http://www.englishpage.com/verbpage/presentperfect.html" TargetMode="External"/><Relationship Id="rId7" Type="http://schemas.openxmlformats.org/officeDocument/2006/relationships/hyperlink" Target="http://www.englishpage.com/verbpage/presentperfect.html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7081920" y="1125360"/>
            <a:ext cx="494352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RESENT PERFECT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ONTINUOUS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AST PERFECT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ONTUNUOU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ESENT PERFEC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INUOU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/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ST PERFEC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INUOU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-40788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3300"/>
                </a:solidFill>
                <a:uFillTx/>
                <a:latin typeface="Arial"/>
              </a:rPr>
              <a:t>Past Perfect 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[had been + gerun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You </a:t>
            </a:r>
            <a:r>
              <a:rPr b="1" lang="es-ES_tradnl" sz="3200" spc="-1" strike="noStrike">
                <a:solidFill>
                  <a:srgbClr val="000080"/>
                </a:solidFill>
                <a:latin typeface="Arial"/>
              </a:rPr>
              <a:t>had been waiting</a:t>
            </a: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 there for more than two hours when she finally arri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80"/>
                </a:solidFill>
                <a:latin typeface="Arial"/>
              </a:rPr>
              <a:t>Had</a:t>
            </a: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 you </a:t>
            </a:r>
            <a:r>
              <a:rPr b="1" lang="es-ES_tradnl" sz="3200" spc="-1" strike="noStrike">
                <a:solidFill>
                  <a:srgbClr val="000080"/>
                </a:solidFill>
                <a:latin typeface="Arial"/>
              </a:rPr>
              <a:t>been waiting</a:t>
            </a: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 there for more than two hours when she finally arriv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You </a:t>
            </a:r>
            <a:r>
              <a:rPr b="1" lang="es-ES_tradnl" sz="3200" spc="-1" strike="noStrike">
                <a:solidFill>
                  <a:srgbClr val="000080"/>
                </a:solidFill>
                <a:latin typeface="Arial"/>
              </a:rPr>
              <a:t>hadn’t been waiting</a:t>
            </a: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 there for more than two hours when she finally arri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7320" y="305640"/>
            <a:ext cx="763308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USE 1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uration Before Something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0920" y="1700280"/>
            <a:ext cx="5040360" cy="976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363708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 use the Past Perfect Continuous to show that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 action started in the past and continued up until another time in the pas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For five minu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since last  week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re both durations which can be used with this tense to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4920" y="-25920"/>
            <a:ext cx="9001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They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d been talk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for over an hour before Tony arriv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She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d been work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at that company for three years when it went out of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How long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d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you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been wait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to get on the bu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Mike wanted to sit down because he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d been stand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all day at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James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d been teach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at the university for more than a year before he left for A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81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tudy these example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She </a:t>
            </a:r>
            <a:r>
              <a:rPr b="1" lang="es-ES_tradnl" sz="2400" spc="-1" strike="noStrike">
                <a:solidFill>
                  <a:srgbClr val="000080"/>
                </a:solidFill>
                <a:latin typeface="Arial"/>
              </a:rPr>
              <a:t>has been working</a:t>
            </a: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 at that company for three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She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had been working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at that company for three years when it went out of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ice the differ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ith the sentence in </a:t>
            </a: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Present Perfect Continuous </a:t>
            </a:r>
            <a:r>
              <a:rPr b="0" i="1" lang="es-ES_tradnl" sz="2400" spc="-1" strike="noStrike">
                <a:solidFill>
                  <a:srgbClr val="ff3300"/>
                </a:solidFill>
                <a:latin typeface="Arial"/>
              </a:rPr>
              <a:t>she continues working at that company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wever, in the sentence of </a:t>
            </a: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Past Perfect Continuous </a:t>
            </a:r>
            <a:r>
              <a:rPr b="0" i="1" lang="es-ES_tradnl" sz="2400" spc="-1" strike="noStrike">
                <a:solidFill>
                  <a:srgbClr val="ff3300"/>
                </a:solidFill>
                <a:latin typeface="Arial"/>
              </a:rPr>
              <a:t>the duration does not continue until now, it stops before something else in the p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6480"/>
            <a:ext cx="1223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4040" y="115200"/>
            <a:ext cx="75643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USE 2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ause of Something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5113440" cy="990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2135160"/>
            <a:ext cx="91440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ing the Past Perfect Continuous before another action in the past is a good way to show cause and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Jason was tired because he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d been jogg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Sam gained weight because he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d been overeat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Betty failed the final test although she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d been attend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class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8000" y="444960"/>
            <a:ext cx="921708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Past Continuous vs. Past Perfect Contin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f you do not include a duration such as 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for fiv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since Frida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many English speakers choose to use the Past Continuous rather than the Past Perfect Continuous. Be careful because this can change the meaning of the sentence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st Continuous emphasizes interrupted action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where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st Perfect Continuous emphasizes a duration of time before something in the past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tudy these sentences to understand the differ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He was tired because he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was exercising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so hard.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his sentence emphasizes that</a:t>
            </a:r>
            <a:r>
              <a:rPr b="0" i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he was tired because he was exercising</a:t>
            </a:r>
            <a:r>
              <a:rPr b="0" i="1" lang="es-ES_tradnl" sz="2400" spc="-1" strike="noStrike">
                <a:solidFill>
                  <a:srgbClr val="333399"/>
                </a:solidFill>
                <a:latin typeface="Arial"/>
              </a:rPr>
              <a:t> at that exact mo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He was tired because he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had been exercising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so hard.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his sentence emphasizes that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as tired because he had been exercising</a:t>
            </a:r>
            <a:r>
              <a:rPr b="0" i="1" lang="es-ES_tradnl" sz="2400" spc="-1" strike="noStrike">
                <a:solidFill>
                  <a:srgbClr val="333399"/>
                </a:solidFill>
                <a:latin typeface="Arial"/>
              </a:rPr>
              <a:t> over a period of time.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It is possible that he was still exercising at that moment OR that he had just finishe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16360" y="3933720"/>
            <a:ext cx="2457720" cy="476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16360" y="6093000"/>
            <a:ext cx="2735280" cy="52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260280"/>
            <a:ext cx="896472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TIME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For, since, all day, when until, befo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ADVERB 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hese sentences show the placement for adverbs such as: 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always, only, never, ever, still, just,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You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had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just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 been waiting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for a few minutes when she arri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Had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you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only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been waiting 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for a few minutes when she arrived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960" y="223920"/>
            <a:ext cx="8652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3300"/>
                </a:solidFill>
                <a:uFillTx/>
                <a:latin typeface="Arial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has/have + been + gerun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You </a:t>
            </a:r>
            <a:r>
              <a:rPr b="1" lang="es-ES_tradnl" sz="3200" spc="-1" strike="noStrike">
                <a:solidFill>
                  <a:srgbClr val="000080"/>
                </a:solidFill>
                <a:latin typeface="Arial"/>
              </a:rPr>
              <a:t>have been waiting</a:t>
            </a: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 here for two hou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80"/>
                </a:solidFill>
                <a:latin typeface="Arial"/>
              </a:rPr>
              <a:t>Have</a:t>
            </a: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 you </a:t>
            </a:r>
            <a:r>
              <a:rPr b="1" lang="es-ES_tradnl" sz="3200" spc="-1" strike="noStrike">
                <a:solidFill>
                  <a:srgbClr val="000080"/>
                </a:solidFill>
                <a:latin typeface="Arial"/>
              </a:rPr>
              <a:t>been waiting</a:t>
            </a: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 here for two hou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You </a:t>
            </a:r>
            <a:r>
              <a:rPr b="1" lang="es-ES_tradnl" sz="3200" spc="-1" strike="noStrike">
                <a:solidFill>
                  <a:srgbClr val="000080"/>
                </a:solidFill>
                <a:latin typeface="Arial"/>
              </a:rPr>
              <a:t>haven’t been waiting</a:t>
            </a: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 here for two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524160"/>
            <a:ext cx="8353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USE 1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 Duration from the Past Until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e use it to show that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n action that started in the past has continued up until now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For five minutes, for two weeks,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 since Tuesda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are all durations which can be used with the Present Perfect Continu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e traslate this tense in Spanish as</a:t>
            </a:r>
            <a:r>
              <a:rPr b="0" lang="es-ES_tradnl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LLEVAR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en presente)</a:t>
            </a:r>
            <a:r>
              <a:rPr b="0" lang="es-ES_tradnl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+ GERUN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321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476280"/>
            <a:ext cx="89647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She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has been working</a:t>
            </a: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 at that company for three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What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have</a:t>
            </a: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 you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been doing</a:t>
            </a: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 for the last 30 minu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James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has been teaching</a:t>
            </a: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 at the university since Ju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We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have been waiting </a:t>
            </a: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here for over two hour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Why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has</a:t>
            </a: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 Nancy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not been taking</a:t>
            </a: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 her medicine for the last three days?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6560" y="548640"/>
            <a:ext cx="45608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USE 2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 Recently, L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427640" cy="85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285156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u can also use the Present Perfect Continuous for an action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WITHOUT a duratio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for two week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 Without the duration, the tense has a more general meaning of "lately." We often use the words 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latel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recentl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to emphasize this meaning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256760"/>
            <a:ext cx="882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She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s been watch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too much television l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ve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you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been exercis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late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Recently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Lisa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s not been practic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her Engl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What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ve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you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been do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8254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R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t is important to remember that </a:t>
            </a: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ative</a:t>
            </a: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erb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annot be used in any continuous tenses. Instead of using Present Perfect Continuous with these verbs, you must use </a:t>
            </a: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esent</a:t>
            </a: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erfec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Sam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s been hav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his car for two years. </a:t>
            </a: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Not Correct</a:t>
            </a: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Sam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s had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his car for two years. </a:t>
            </a:r>
            <a:r>
              <a:rPr b="1" i="1" lang="es-ES_tradnl" sz="2800" spc="-1" strike="noStrike">
                <a:solidFill>
                  <a:srgbClr val="008000"/>
                </a:solidFill>
                <a:latin typeface="Arial"/>
              </a:rPr>
              <a:t>Correct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tudy these examples: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/ 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She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s done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her homework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/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She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s been do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her homework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 which sentence are we sure she finished it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7800" y="429264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I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04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TIME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For, since, how long, all day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ADVERB 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hese sentences show the placement for adverbs such as: 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always, only, never, ever, still, just,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You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have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just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 been waiting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here for one ho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Have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you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only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been waiting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here for one hou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09:54Z</dcterms:created>
  <dc:creator>Bj</dc:creator>
  <dc:description/>
  <dc:language>en-US</dc:language>
  <cp:lastModifiedBy>Bj</cp:lastModifiedBy>
  <dcterms:modified xsi:type="dcterms:W3CDTF">2009-11-05T21:08:55Z</dcterms:modified>
  <cp:revision>7</cp:revision>
  <dc:subject/>
  <dc:title>              PRESENT PERFECT CONTINUOUS / PAST PERFECT CONTINUOUS      </dc:title>
</cp:coreProperties>
</file>